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D21-DD03-4C0E-9797-558454B3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3BB-8E9C-4051-BDEE-2807848B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C48-5EB3-47DC-8B15-D1BE10F1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802-2D32-419D-828C-B052D8F2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5B1-3140-4A53-826D-D6AEE872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892-F832-40AC-A935-02A15E6E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564-6E1D-4339-9D03-6CCB010B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8A6-3BF7-4AA9-A717-E85F0490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F10-E95F-4231-AD29-B7289DD4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BF0-1177-4CD0-BF0C-708A98A2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EBA-E5AC-45D0-9EFB-32EB066D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23C-110E-450A-97A1-0F737A2F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A4D9-B442-4FC1-9802-01EA6AD0D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2377800" cy="3181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429000" cy="1870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486400" y="685800"/>
            <a:ext cx="2479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4:39:25Z</dcterms:created>
  <dc:creator>Patrick J. Mooney</dc:creator>
  <dc:description/>
  <dc:language>en-US</dc:language>
  <cp:lastModifiedBy>Patrick J. Mooney</cp:lastModifiedBy>
  <dcterms:modified xsi:type="dcterms:W3CDTF">2011-09-13T14:40:51Z</dcterms:modified>
  <cp:revision>1</cp:revision>
  <dc:subject/>
  <dc:title>Slide 1</dc:title>
</cp:coreProperties>
</file>